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9DE2-7DEA-4874-9467-701C4615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DE9-E0E7-42C0-97D4-780CEDD1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C236-5759-42A8-A604-1773745D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99A-6389-4977-B4A1-6330B9ED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0E14-39EC-41E9-A4E2-02760AF9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C8CA-3328-489D-A709-6742B064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A3C1-AE62-40EC-9EA0-525C3053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C155-BF9D-4192-887E-985A06EC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7B34-4691-4F46-B94E-DFA7F61A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4972-81BC-43E7-A52B-446041C2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67BB-EC8F-43BB-9E8D-57EBEEBB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AD2-264A-41F0-99AA-704EF93B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B655-A9E6-45B8-9F7C-3788443F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9B7E-CAFC-43E1-A7E5-C74F1694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4DA4-9A99-4044-A20E-E73BEDA5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6303-4490-444B-946B-8CAD82CF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3E2A-BF4E-480A-BC46-E28A43CC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5D6-F90C-4EDF-953F-5679077A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95C7-5DA1-4A37-A0CB-1D5DD7E1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302-2B9B-4E76-B1A4-E7FF4D4A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632-56CC-4985-B46D-CF2DF114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E86-C8AF-4F0C-9CBE-2657C702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B2F8-DE78-4C25-AF1C-BBF18868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A90F-F45C-4BB2-8117-D7ECFFC7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3F8736-8401-4563-B6F5-E1628805F7FB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A184A6-71CB-41E5-8F74-DCBE929C8208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-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: Rounded Corners 4"/>
          <p:cNvSpPr/>
          <p:nvPr/>
        </p:nvSpPr>
        <p:spPr>
          <a:xfrm>
            <a:off x="3286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: Rounded Corners 5"/>
          <p:cNvSpPr/>
          <p:nvPr/>
        </p:nvSpPr>
        <p:spPr>
          <a:xfrm>
            <a:off x="5059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Connector 9"/>
          <p:cNvCxnSpPr/>
          <p:nvPr/>
        </p:nvCxnSpPr>
        <p:spPr>
          <a:xfrm>
            <a:off x="2128320" y="1533960"/>
            <a:ext cx="4140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0" name="Straight Connector 12"/>
          <p:cNvCxnSpPr/>
          <p:nvPr/>
        </p:nvCxnSpPr>
        <p:spPr>
          <a:xfrm flipH="1">
            <a:off x="3799440" y="1533960"/>
            <a:ext cx="5760" cy="436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1" name="Straight Connector 13"/>
          <p:cNvCxnSpPr/>
          <p:nvPr/>
        </p:nvCxnSpPr>
        <p:spPr>
          <a:xfrm>
            <a:off x="5582880" y="1533960"/>
            <a:ext cx="2736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2" name="Straight Connector 14"/>
          <p:cNvCxnSpPr/>
          <p:nvPr/>
        </p:nvCxnSpPr>
        <p:spPr>
          <a:xfrm>
            <a:off x="8249760" y="1549080"/>
            <a:ext cx="10440" cy="45266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3" name="Straight Arrow Connector 16"/>
          <p:cNvCxnSpPr/>
          <p:nvPr/>
        </p:nvCxnSpPr>
        <p:spPr>
          <a:xfrm flipH="1">
            <a:off x="2128320" y="21945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4" name="Straight Arrow Connector 17"/>
          <p:cNvCxnSpPr/>
          <p:nvPr/>
        </p:nvCxnSpPr>
        <p:spPr>
          <a:xfrm flipH="1">
            <a:off x="3804840" y="2986920"/>
            <a:ext cx="44452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5" name="Straight Arrow Connector 18"/>
          <p:cNvCxnSpPr/>
          <p:nvPr/>
        </p:nvCxnSpPr>
        <p:spPr>
          <a:xfrm flipH="1">
            <a:off x="5582880" y="3901320"/>
            <a:ext cx="26773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6" name="Straight Arrow Connector 22"/>
          <p:cNvCxnSpPr/>
          <p:nvPr/>
        </p:nvCxnSpPr>
        <p:spPr>
          <a:xfrm>
            <a:off x="2128320" y="25398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7" name="Straight Arrow Connector 23"/>
          <p:cNvCxnSpPr/>
          <p:nvPr/>
        </p:nvCxnSpPr>
        <p:spPr>
          <a:xfrm>
            <a:off x="3819960" y="3357720"/>
            <a:ext cx="4440240" cy="309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8" name="Straight Arrow Connector 24"/>
          <p:cNvCxnSpPr/>
          <p:nvPr/>
        </p:nvCxnSpPr>
        <p:spPr>
          <a:xfrm>
            <a:off x="5572440" y="4297680"/>
            <a:ext cx="26776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99" name="Rectangle: Rounded Corners 36"/>
          <p:cNvSpPr/>
          <p:nvPr/>
        </p:nvSpPr>
        <p:spPr>
          <a:xfrm>
            <a:off x="9774000" y="924480"/>
            <a:ext cx="16606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Connector 37"/>
          <p:cNvCxnSpPr/>
          <p:nvPr/>
        </p:nvCxnSpPr>
        <p:spPr>
          <a:xfrm>
            <a:off x="10688040" y="1559520"/>
            <a:ext cx="360" cy="441468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01" name="Straight Arrow Connector 39"/>
          <p:cNvCxnSpPr/>
          <p:nvPr/>
        </p:nvCxnSpPr>
        <p:spPr>
          <a:xfrm>
            <a:off x="8259840" y="5788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02" name="Rectangle 40"/>
          <p:cNvSpPr/>
          <p:nvPr/>
        </p:nvSpPr>
        <p:spPr>
          <a:xfrm>
            <a:off x="7330680" y="4410000"/>
            <a:ext cx="1747080" cy="105120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  by considering the xApps deployed, subscriptions created and existing E2Terms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1"/>
          <p:cNvSpPr/>
          <p:nvPr/>
        </p:nvSpPr>
        <p:spPr>
          <a:xfrm>
            <a:off x="2291040" y="1879560"/>
            <a:ext cx="135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ric/v1/x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2"/>
          <p:cNvSpPr/>
          <p:nvPr/>
        </p:nvSpPr>
        <p:spPr>
          <a:xfrm>
            <a:off x="2296080" y="2241720"/>
            <a:ext cx="1193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Xapp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3"/>
          <p:cNvSpPr/>
          <p:nvPr/>
        </p:nvSpPr>
        <p:spPr>
          <a:xfrm>
            <a:off x="5589360" y="3560040"/>
            <a:ext cx="1165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v1/e2t/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5"/>
          <p:cNvSpPr/>
          <p:nvPr/>
        </p:nvSpPr>
        <p:spPr>
          <a:xfrm>
            <a:off x="5614560" y="4039200"/>
            <a:ext cx="110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e2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6"/>
          <p:cNvSpPr/>
          <p:nvPr/>
        </p:nvSpPr>
        <p:spPr>
          <a:xfrm>
            <a:off x="3808080" y="2735280"/>
            <a:ext cx="22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Subscription List stored 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8"/>
          <p:cNvSpPr/>
          <p:nvPr/>
        </p:nvSpPr>
        <p:spPr>
          <a:xfrm>
            <a:off x="3850920" y="3150720"/>
            <a:ext cx="1647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Sub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9"/>
          <p:cNvSpPr/>
          <p:nvPr/>
        </p:nvSpPr>
        <p:spPr>
          <a:xfrm>
            <a:off x="8732880" y="55112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back with Appmg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Connector 9"/>
          <p:cNvCxnSpPr/>
          <p:nvPr/>
        </p:nvCxnSpPr>
        <p:spPr>
          <a:xfrm>
            <a:off x="2128320" y="153396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4" name="Straight Connector 14"/>
          <p:cNvCxnSpPr/>
          <p:nvPr/>
        </p:nvCxnSpPr>
        <p:spPr>
          <a:xfrm>
            <a:off x="8249760" y="154908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5" name="Straight Arrow Connector 16"/>
          <p:cNvCxnSpPr/>
          <p:nvPr/>
        </p:nvCxnSpPr>
        <p:spPr>
          <a:xfrm flipH="1">
            <a:off x="2128320" y="48398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1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17" name="Rectangle: Rounded Corners 36"/>
          <p:cNvSpPr/>
          <p:nvPr/>
        </p:nvSpPr>
        <p:spPr>
          <a:xfrm>
            <a:off x="9885600" y="924480"/>
            <a:ext cx="15490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Connector 37"/>
          <p:cNvCxnSpPr/>
          <p:nvPr/>
        </p:nvCxnSpPr>
        <p:spPr>
          <a:xfrm>
            <a:off x="10688040" y="1559520"/>
            <a:ext cx="360" cy="37389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9" name="Straight Arrow Connector 39"/>
          <p:cNvCxnSpPr/>
          <p:nvPr/>
        </p:nvCxnSpPr>
        <p:spPr>
          <a:xfrm>
            <a:off x="8239680" y="45986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20" name="Rectangle 40"/>
          <p:cNvSpPr/>
          <p:nvPr/>
        </p:nvSpPr>
        <p:spPr>
          <a:xfrm>
            <a:off x="7720200" y="3600360"/>
            <a:ext cx="1137600" cy="40608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2291040" y="1879560"/>
            <a:ext cx="314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v1/handles/xapp-handle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2"/>
          <p:cNvSpPr/>
          <p:nvPr/>
        </p:nvSpPr>
        <p:spPr>
          <a:xfrm>
            <a:off x="3091680" y="4563000"/>
            <a:ext cx="2011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201 Call back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9"/>
          <p:cNvSpPr/>
          <p:nvPr/>
        </p:nvSpPr>
        <p:spPr>
          <a:xfrm>
            <a:off x="8849520" y="431496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472520" y="260532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xapp table by adding/deleting xapp e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Add/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2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0" name="Straight Arrow Connector 16"/>
          <p:cNvCxnSpPr/>
          <p:nvPr/>
        </p:nvCxnSpPr>
        <p:spPr>
          <a:xfrm flipH="1">
            <a:off x="2128320" y="33656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3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2" name="Rectangle: Rounded Corners 36"/>
          <p:cNvSpPr/>
          <p:nvPr/>
        </p:nvSpPr>
        <p:spPr>
          <a:xfrm>
            <a:off x="9918720" y="924480"/>
            <a:ext cx="151596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4" name="Straight Arrow Connector 39"/>
          <p:cNvCxnSpPr/>
          <p:nvPr/>
        </p:nvCxnSpPr>
        <p:spPr>
          <a:xfrm>
            <a:off x="8259840" y="315252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5" name="TextBox 41"/>
          <p:cNvSpPr/>
          <p:nvPr/>
        </p:nvSpPr>
        <p:spPr>
          <a:xfrm>
            <a:off x="2291040" y="172692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2"/>
          <p:cNvSpPr/>
          <p:nvPr/>
        </p:nvSpPr>
        <p:spPr>
          <a:xfrm>
            <a:off x="2501640" y="3069000"/>
            <a:ext cx="2438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Subscription data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9"/>
          <p:cNvSpPr/>
          <p:nvPr/>
        </p:nvSpPr>
        <p:spPr>
          <a:xfrm>
            <a:off x="8659080" y="287568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7462440" y="234504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adding  subscription ID to the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17"/>
          <p:cNvCxnSpPr/>
          <p:nvPr/>
        </p:nvCxnSpPr>
        <p:spPr>
          <a:xfrm>
            <a:off x="2113200" y="38430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40" name="Straight Arrow Connector 18"/>
          <p:cNvCxnSpPr/>
          <p:nvPr/>
        </p:nvCxnSpPr>
        <p:spPr>
          <a:xfrm flipH="1" flipV="1">
            <a:off x="2189160" y="5347440"/>
            <a:ext cx="6132240" cy="2268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1" name="Rectangle 20"/>
          <p:cNvSpPr/>
          <p:nvPr/>
        </p:nvSpPr>
        <p:spPr>
          <a:xfrm>
            <a:off x="7472520" y="416268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deleting subscription ID for the given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1"/>
          <p:cNvCxnSpPr/>
          <p:nvPr/>
        </p:nvCxnSpPr>
        <p:spPr>
          <a:xfrm>
            <a:off x="8259840" y="49528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3" name="TextBox 4"/>
          <p:cNvSpPr/>
          <p:nvPr/>
        </p:nvSpPr>
        <p:spPr>
          <a:xfrm>
            <a:off x="8618400" y="4650480"/>
            <a:ext cx="2031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6"/>
          <p:cNvSpPr/>
          <p:nvPr/>
        </p:nvSpPr>
        <p:spPr>
          <a:xfrm>
            <a:off x="2341800" y="355824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 flipH="1">
            <a:off x="2592720" y="5018760"/>
            <a:ext cx="250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Xapp Subscription De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A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0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1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52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3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5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6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7462440" y="2345040"/>
            <a:ext cx="157428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4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5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6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67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9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70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7338240" y="2321640"/>
            <a:ext cx="1843560" cy="95256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If the subscription ID exist s for other xAPP, delete the sa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Create/Delete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8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9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80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1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83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4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2"/>
          <p:cNvSpPr/>
          <p:nvPr/>
        </p:nvSpPr>
        <p:spPr>
          <a:xfrm>
            <a:off x="2376360" y="35460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FQDN of  E2Termination instance in E2T Table. Construct the routes and distribute to all components including the E2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9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elete FQDN of  E2Termination instance. Construct the routes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istribute to all compon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91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92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9"/>
          <p:cNvSpPr/>
          <p:nvPr/>
        </p:nvSpPr>
        <p:spPr>
          <a:xfrm>
            <a:off x="2310120" y="54648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Associate/Dissociate RAN name to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9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0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0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2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4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5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associate-ran-to-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2389320" y="3546000"/>
            <a:ext cx="310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E2t ran mapping recieved, platform ro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Map the given RAN name to existing E2Term , construct the Route table and MEID table with the given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0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nmap the Ran name to the existing E2Term, construct the route table and meid table with th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12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3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dissociate-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9"/>
          <p:cNvSpPr/>
          <p:nvPr/>
        </p:nvSpPr>
        <p:spPr>
          <a:xfrm>
            <a:off x="2304360" y="5464800"/>
            <a:ext cx="2070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RAN instances Dissoc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  <Words>409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4T03:46:00Z</dcterms:created>
  <dc:creator>W, Abdulwahid (Nokia - IN/Bangalore)</dc:creator>
  <dc:description/>
  <dc:language>en-US</dc:language>
  <cp:lastModifiedBy>W, Abdulwahid (Nokia - IN/Bangalore)</cp:lastModifiedBy>
  <dcterms:modified xsi:type="dcterms:W3CDTF">2020-03-25T05:06:0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