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26A-D050-4587-A1BE-E4D7D728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E15-3926-4B0B-90CE-D72FC475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2D59-8EA0-45A4-A793-F5C1F410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B1C-27CF-4688-A4D4-AEE6BF48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0462-01CF-4A3A-9E11-7DDAD5B9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14AF-482C-419D-BFC7-38BF758E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5B57-6ADD-4C59-BD92-49A18E25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8771-C6AC-47FB-B18A-89E71023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A3E3-F429-44CF-A96B-06243506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B6BD-E361-41F1-895A-5C57EF40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67B3-D0CC-4265-85D6-7840BBBC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8A3E-BE7D-42F7-B951-064E3A3E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8E6F-B1DE-4CCC-B206-DD7E4FBB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60F0-EF54-4698-A336-46D41824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1EB1-BCFB-45A3-BDED-44804A1B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3578-4B77-47B7-B24C-3AD89D78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2CD4-5B02-4F4B-ADF8-F17B94F1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9C5-94E2-4296-9CA2-C124511E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959-222C-42FE-9B79-BDF7E1B9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6EE9-8E88-44BC-956E-08AD9126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A17-DF09-4D8F-946C-971B4F16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87C-32BA-4ABE-AB46-BAB617F7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959-47F6-4402-A087-9D712D1D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EA8-5783-4C80-B527-27A37FF6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567592-DB6B-40F5-8417-417D47659733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F69391-57AD-48AD-977A-54B0454AC9BA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: Rounded Corners 4"/>
          <p:cNvSpPr/>
          <p:nvPr/>
        </p:nvSpPr>
        <p:spPr>
          <a:xfrm>
            <a:off x="3286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: Rounded Corners 5"/>
          <p:cNvSpPr/>
          <p:nvPr/>
        </p:nvSpPr>
        <p:spPr>
          <a:xfrm>
            <a:off x="5059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Connector 9"/>
          <p:cNvCxnSpPr/>
          <p:nvPr/>
        </p:nvCxnSpPr>
        <p:spPr>
          <a:xfrm>
            <a:off x="2128320" y="1533960"/>
            <a:ext cx="4140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0" name="Straight Connector 12"/>
          <p:cNvCxnSpPr/>
          <p:nvPr/>
        </p:nvCxnSpPr>
        <p:spPr>
          <a:xfrm flipH="1">
            <a:off x="3799440" y="1533960"/>
            <a:ext cx="5760" cy="436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1" name="Straight Connector 13"/>
          <p:cNvCxnSpPr/>
          <p:nvPr/>
        </p:nvCxnSpPr>
        <p:spPr>
          <a:xfrm>
            <a:off x="5582880" y="1533960"/>
            <a:ext cx="2736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2" name="Straight Connector 14"/>
          <p:cNvCxnSpPr/>
          <p:nvPr/>
        </p:nvCxnSpPr>
        <p:spPr>
          <a:xfrm>
            <a:off x="8249760" y="1549080"/>
            <a:ext cx="10440" cy="45266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3" name="Straight Arrow Connector 16"/>
          <p:cNvCxnSpPr/>
          <p:nvPr/>
        </p:nvCxnSpPr>
        <p:spPr>
          <a:xfrm flipH="1">
            <a:off x="2128320" y="21945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4" name="Straight Arrow Connector 17"/>
          <p:cNvCxnSpPr/>
          <p:nvPr/>
        </p:nvCxnSpPr>
        <p:spPr>
          <a:xfrm flipH="1">
            <a:off x="3804840" y="2986920"/>
            <a:ext cx="44452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5" name="Straight Arrow Connector 18"/>
          <p:cNvCxnSpPr/>
          <p:nvPr/>
        </p:nvCxnSpPr>
        <p:spPr>
          <a:xfrm flipH="1">
            <a:off x="5582880" y="3901320"/>
            <a:ext cx="26773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6" name="Straight Arrow Connector 22"/>
          <p:cNvCxnSpPr/>
          <p:nvPr/>
        </p:nvCxnSpPr>
        <p:spPr>
          <a:xfrm>
            <a:off x="2128320" y="25398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7" name="Straight Arrow Connector 23"/>
          <p:cNvCxnSpPr/>
          <p:nvPr/>
        </p:nvCxnSpPr>
        <p:spPr>
          <a:xfrm>
            <a:off x="3819960" y="3357720"/>
            <a:ext cx="4440240" cy="309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8" name="Straight Arrow Connector 24"/>
          <p:cNvCxnSpPr/>
          <p:nvPr/>
        </p:nvCxnSpPr>
        <p:spPr>
          <a:xfrm>
            <a:off x="5572440" y="4297680"/>
            <a:ext cx="26776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99" name="Rectangle: Rounded Corners 36"/>
          <p:cNvSpPr/>
          <p:nvPr/>
        </p:nvSpPr>
        <p:spPr>
          <a:xfrm>
            <a:off x="9774000" y="924480"/>
            <a:ext cx="16606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Connector 37"/>
          <p:cNvCxnSpPr/>
          <p:nvPr/>
        </p:nvCxnSpPr>
        <p:spPr>
          <a:xfrm>
            <a:off x="10688040" y="1559520"/>
            <a:ext cx="360" cy="441468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01" name="Straight Arrow Connector 39"/>
          <p:cNvCxnSpPr/>
          <p:nvPr/>
        </p:nvCxnSpPr>
        <p:spPr>
          <a:xfrm>
            <a:off x="8259840" y="5788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02" name="Rectangle 40"/>
          <p:cNvSpPr/>
          <p:nvPr/>
        </p:nvSpPr>
        <p:spPr>
          <a:xfrm>
            <a:off x="7330680" y="4410000"/>
            <a:ext cx="1747080" cy="105120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  by considering the xApps deployed, subscriptions created and existing E2Terms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2291040" y="1879560"/>
            <a:ext cx="135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ric/v1/x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2"/>
          <p:cNvSpPr/>
          <p:nvPr/>
        </p:nvSpPr>
        <p:spPr>
          <a:xfrm>
            <a:off x="2296080" y="2241720"/>
            <a:ext cx="1193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Xapp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5589360" y="3560040"/>
            <a:ext cx="1165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v1/e2t/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5"/>
          <p:cNvSpPr/>
          <p:nvPr/>
        </p:nvSpPr>
        <p:spPr>
          <a:xfrm>
            <a:off x="5614560" y="4039200"/>
            <a:ext cx="110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e2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3808080" y="2735280"/>
            <a:ext cx="22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Subscription List stored 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8"/>
          <p:cNvSpPr/>
          <p:nvPr/>
        </p:nvSpPr>
        <p:spPr>
          <a:xfrm>
            <a:off x="3850920" y="3150720"/>
            <a:ext cx="1647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Sub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9"/>
          <p:cNvSpPr/>
          <p:nvPr/>
        </p:nvSpPr>
        <p:spPr>
          <a:xfrm>
            <a:off x="8732880" y="55112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back with Appm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Connector 9"/>
          <p:cNvCxnSpPr/>
          <p:nvPr/>
        </p:nvCxnSpPr>
        <p:spPr>
          <a:xfrm>
            <a:off x="2128320" y="153396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4" name="Straight Connector 14"/>
          <p:cNvCxnSpPr/>
          <p:nvPr/>
        </p:nvCxnSpPr>
        <p:spPr>
          <a:xfrm>
            <a:off x="8249760" y="154908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5" name="Straight Arrow Connector 16"/>
          <p:cNvCxnSpPr/>
          <p:nvPr/>
        </p:nvCxnSpPr>
        <p:spPr>
          <a:xfrm flipH="1">
            <a:off x="2128320" y="48398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1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17" name="Rectangle: Rounded Corners 36"/>
          <p:cNvSpPr/>
          <p:nvPr/>
        </p:nvSpPr>
        <p:spPr>
          <a:xfrm>
            <a:off x="9885600" y="924480"/>
            <a:ext cx="15490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Connector 37"/>
          <p:cNvCxnSpPr/>
          <p:nvPr/>
        </p:nvCxnSpPr>
        <p:spPr>
          <a:xfrm>
            <a:off x="10688040" y="1559520"/>
            <a:ext cx="360" cy="37389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9" name="Straight Arrow Connector 39"/>
          <p:cNvCxnSpPr/>
          <p:nvPr/>
        </p:nvCxnSpPr>
        <p:spPr>
          <a:xfrm>
            <a:off x="8239680" y="45986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20" name="Rectangle 40"/>
          <p:cNvSpPr/>
          <p:nvPr/>
        </p:nvSpPr>
        <p:spPr>
          <a:xfrm>
            <a:off x="7720200" y="3600360"/>
            <a:ext cx="1137600" cy="40608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291040" y="1879560"/>
            <a:ext cx="314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v1/handles/xapp-handle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2"/>
          <p:cNvSpPr/>
          <p:nvPr/>
        </p:nvSpPr>
        <p:spPr>
          <a:xfrm>
            <a:off x="3091680" y="4563000"/>
            <a:ext cx="2011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201 Call back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9"/>
          <p:cNvSpPr/>
          <p:nvPr/>
        </p:nvSpPr>
        <p:spPr>
          <a:xfrm>
            <a:off x="8849520" y="431496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472520" y="260532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xapp table by adding/deleting xapp e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Add/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2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0" name="Straight Arrow Connector 16"/>
          <p:cNvCxnSpPr/>
          <p:nvPr/>
        </p:nvCxnSpPr>
        <p:spPr>
          <a:xfrm flipH="1">
            <a:off x="2128320" y="33656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3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2" name="Rectangle: Rounded Corners 36"/>
          <p:cNvSpPr/>
          <p:nvPr/>
        </p:nvSpPr>
        <p:spPr>
          <a:xfrm>
            <a:off x="9918720" y="924480"/>
            <a:ext cx="151596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4" name="Straight Arrow Connector 39"/>
          <p:cNvCxnSpPr/>
          <p:nvPr/>
        </p:nvCxnSpPr>
        <p:spPr>
          <a:xfrm>
            <a:off x="8259840" y="315252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5" name="TextBox 41"/>
          <p:cNvSpPr/>
          <p:nvPr/>
        </p:nvSpPr>
        <p:spPr>
          <a:xfrm>
            <a:off x="2291040" y="172692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2501640" y="3069000"/>
            <a:ext cx="2438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Subscription data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9"/>
          <p:cNvSpPr/>
          <p:nvPr/>
        </p:nvSpPr>
        <p:spPr>
          <a:xfrm>
            <a:off x="8659080" y="287568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7462440" y="234504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adding  subscription ID to the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7"/>
          <p:cNvCxnSpPr/>
          <p:nvPr/>
        </p:nvCxnSpPr>
        <p:spPr>
          <a:xfrm>
            <a:off x="2113200" y="38430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40" name="Straight Arrow Connector 18"/>
          <p:cNvCxnSpPr/>
          <p:nvPr/>
        </p:nvCxnSpPr>
        <p:spPr>
          <a:xfrm flipH="1" flipV="1">
            <a:off x="2189160" y="5347440"/>
            <a:ext cx="6132240" cy="2268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1" name="Rectangle 20"/>
          <p:cNvSpPr/>
          <p:nvPr/>
        </p:nvSpPr>
        <p:spPr>
          <a:xfrm>
            <a:off x="7472520" y="416268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deleting subscription ID for the given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1"/>
          <p:cNvCxnSpPr/>
          <p:nvPr/>
        </p:nvCxnSpPr>
        <p:spPr>
          <a:xfrm>
            <a:off x="8259840" y="49528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3" name="TextBox 4"/>
          <p:cNvSpPr/>
          <p:nvPr/>
        </p:nvSpPr>
        <p:spPr>
          <a:xfrm>
            <a:off x="8618400" y="4650480"/>
            <a:ext cx="2031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6"/>
          <p:cNvSpPr/>
          <p:nvPr/>
        </p:nvSpPr>
        <p:spPr>
          <a:xfrm>
            <a:off x="2341800" y="355824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 flipH="1">
            <a:off x="2592720" y="5018760"/>
            <a:ext cx="250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Xapp Subscription De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A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0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1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52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3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5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6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7462440" y="2345040"/>
            <a:ext cx="157428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4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5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6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67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9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70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338240" y="2321640"/>
            <a:ext cx="1843560" cy="95256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If the subscription ID exist s for other xAPP, delet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Create/Delete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8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9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80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1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83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4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2"/>
          <p:cNvSpPr/>
          <p:nvPr/>
        </p:nvSpPr>
        <p:spPr>
          <a:xfrm>
            <a:off x="2376360" y="35460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FQDN of  E2Termination instance in E2T Table. Construct the routes and distribute to all components including the E2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9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elete FQDN of  E2Termination instance. Construct the route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istribute to all compon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91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92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9"/>
          <p:cNvSpPr/>
          <p:nvPr/>
        </p:nvSpPr>
        <p:spPr>
          <a:xfrm>
            <a:off x="2310120" y="54648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Associate/Dissociate RAN name to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9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0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0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2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4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5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associate-ran-to-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2389320" y="3546000"/>
            <a:ext cx="310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E2t ran mapping recieved, platform ro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Map the given RAN name to existing E2Term , construct the Route table and MEID table with the given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0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nmap the Ran name to the existing E2Term, construct the route table and meid table with th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12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3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dissociate-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9"/>
          <p:cNvSpPr/>
          <p:nvPr/>
        </p:nvSpPr>
        <p:spPr>
          <a:xfrm>
            <a:off x="2304360" y="5464800"/>
            <a:ext cx="2070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RAN instances Dissoc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  <Words>409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3:46:00Z</dcterms:created>
  <dc:creator>W, Abdulwahid (Nokia - IN/Bangalore)</dc:creator>
  <dc:description/>
  <dc:language>en-US</dc:language>
  <cp:lastModifiedBy>W, Abdulwahid (Nokia - IN/Bangalore)</cp:lastModifiedBy>
  <dcterms:modified xsi:type="dcterms:W3CDTF">2020-03-25T05:06:0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